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27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25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30.jpeg" ContentType="image/jpe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D868-8D77-4BF5-8AA9-2C28F3117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9C34-A5B4-48D8-929D-D9851693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E472F-FD71-435C-A242-DFCBF101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B848D-7D0F-4EB9-9C68-60F9FF11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810AB-67F9-4F79-9021-DD694142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F2EED-1AD9-4147-AF35-327BD581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F4603-3AD3-484A-9310-D349CDFC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66761-63F6-4974-B829-C4021FBB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9BDC1-83E3-4C84-918F-4ED9EE5C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A6144-5B2E-4C93-A6F2-31CD91097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0AA6F-0A76-429B-9421-756727B2E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2378E9-32D4-4E16-BD93-2C7272C8A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8E45-6D07-4885-8F55-7CB760D19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3981C1-FD95-4856-87D1-3FAFAA5E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7F64B2-5C98-42E1-81F6-C5A1158D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0CD8B-0482-457A-92CD-6331A3F2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D44ED-54E8-49F8-A92F-52A198B6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C1FC89-8245-4A0B-B076-C7C9B1BB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BDF962-E149-4DFF-9ABB-CACAB1F2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FA6253-AB34-41DE-8B41-28FD9306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3E0C9-4901-4B96-8A79-6AAD9CAD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0DBE1-6F5A-418C-84E2-0D7D784E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965BC-DFD3-4A5D-92F7-F8970D2A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6BA7-B01E-43B2-94A8-9D6A38A8F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AC2AD4-5D8A-460C-9D46-431D361C4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B2374-B9EB-43FC-8ACE-CBD61F596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1B4A6-07CC-4B29-AB02-83AADE07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22B00-9E9A-432F-8E19-B8AA3EB1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0EEF5-5CEA-43C7-B634-084000AE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BAB31-EC03-4044-A1EE-3AC9A868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122EC-9261-41A3-A2B7-96F646BB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33CD4-F87D-44F4-9E0F-404CA930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D69B2-E438-4025-96DD-C170D957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BA89B-54DA-41E6-A202-B166D5DD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6EC6-8A4A-4720-B8CB-60D8F71F9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460C9-17DC-46B4-AAED-0A96424D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4C1C7-AB7E-44F7-B05D-974D33B92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293E9-FDCC-4932-9EF0-A474291E9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01EC50-7ED8-4733-BB9B-29E4C17DF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15A17D-CEC3-470C-9D31-DC17BA12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7A2E83-E42E-4E58-B368-EB4F4379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0E5D3A-1A36-4541-888B-AD0F5038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EB3C76-E06C-4AE3-AFB1-3BD30FE4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1C7646-3E55-40F9-A534-8F69C83E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C5E180-0B1D-4B5B-911B-B03CA8F4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BC65-5CCE-4716-A1DC-422A67FD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EEC5FC-BA9F-4B99-A36C-F5F4BF3B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E11233-FE2B-429F-94B0-BE0F036B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DD2849-86F7-4CBC-846B-AC6E5084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E7CCBA-5025-4157-A6C2-D346FFD1E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ADF603-1716-453D-A1CC-551FE0B3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D5CA3C-73B9-4077-A500-3EE029D5E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7B021A-F00E-425F-A1C1-11F92653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5BF49E-B6C5-49A8-9820-810E2AFB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653380-A5DF-4A3E-9C2E-5361ACA4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A41081-8979-49C8-9FDF-EB4E3A0D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176E-FD05-463A-8E7D-88D0C659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16A59A-D6B1-424A-9749-1144D190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94C354-AD4C-4F37-8BF7-D6DFD78C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92C12C-D015-45D2-908B-102BA4BD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6E9EE6-8759-4D4B-B865-4BED8884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5F1116-CE3A-404E-BC21-12CCC92A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B174C5-CA10-41DB-8414-CB3E21CB4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646FF5-ACDB-4476-A7DC-401C7FC1E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C7089D-5B8C-45CE-8AA5-87B3FEF68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C9E3BC-099D-428F-A90D-F0913924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209E37-55FB-4F09-BD02-22908CA3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300D-19D2-4CDD-8266-B0F25CB0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544EA5-4715-404C-A384-813C48BB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63942B-5F5F-4296-A636-1021709B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69485D-81C4-4649-8528-BE124585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778F70-1CA1-41D1-8B45-D22DDF14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C49E20-1DA6-4DB1-B038-EC082078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2AFDFD-6B35-40E6-A796-7B7301BE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184557-3B9A-411B-AE00-733DB890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CD6C39-BAF2-4C5B-8607-9CFD5000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9DF200-2F4A-413B-9875-4CB72A9A2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D03CE2-2470-47DB-B8B7-7828194F4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CD9D-E9F2-4692-A25D-FAE0CE63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1CDA60-5F4D-4CC2-8E63-93571FDC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F0D293-DCF0-4460-A901-53775317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25711E-DB34-4497-B697-BC1F9E46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559D3C-5ADD-4EB2-88D0-7C2B314E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454378-DF2D-45DE-982C-8213DC59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4016BC-C9D7-440C-92B9-F6D03E02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CF2835-FD7E-4E22-845F-3EC3A6E3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68FA40-3A7F-4D52-BD9B-585A65EB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E4E495-79E8-426C-B25E-75E6A86D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48874F-A90C-487D-A851-1C6C5351F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9D5C-28E9-4DA4-85BB-25C952F6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BCB917-2470-4F5E-B307-5A8077621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E6B3CD-EDBC-4142-AE3E-23B64975C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CE6F5F-E934-41DA-8486-62BF6687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ED6A53-6911-4D25-92EC-EBFB3A01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3FE654-92FA-4F92-BF26-3C343A5E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8BD173-701E-4639-B580-71F52987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9D041C-D23D-498C-B832-B2D3126D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295C15-15A9-430A-9722-4048693A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48F3CD-978B-4FD2-A054-7C1D4C0D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FAC3CC-50D6-4AC0-BBB3-440ABCD0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F4AE-1EC5-4456-842B-03496E10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57D9FE-C27D-4AE2-9B62-3ED3CF2B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212442-56C6-41F1-BB66-1ED063C05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482541-E59E-42DC-AD40-004A44812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424D6C-1EC2-43C8-BA7F-D08231936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89C452-97FE-4222-9F0F-FD5FF123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9280E3-6E2D-4F58-8821-A37C8EC5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47C3A9-384D-4571-A991-D872D76E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4421A0-DA56-458E-BE4B-0DC21532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146875-68F9-4927-ACCD-D827AE1B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FA6DD8-299E-408E-9575-1BA7A4BF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3C13-5F59-4289-886C-426E42E1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9349-D63D-45CE-AD66-8651B7B3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864EA4-FEE3-4304-9B90-EB6B0FF1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773701-7EFE-40BC-98C4-AA6EE4BF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9A02BF-2FA6-4BC5-B60C-FFF997A8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9893AF-A97C-46C3-A6D4-E6FB6544B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BF454D-16AE-490E-8ED8-50AB3DFE7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D648-E621-4272-97F4-9483118B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AAB1-77A4-4C29-809D-7425D410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64D5-BB2F-43A0-9341-5709EBB20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4422-AABE-46EE-90CE-BF615627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5360F-9972-410C-81A4-24D38D98F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A7712-92A7-41CB-B0DF-824575D6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677BE-4996-4E9E-9B4C-3AC6296A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CFD48-C0BE-4587-8AB9-C05EDED1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AB8F9-A437-4A3F-B1AA-DFF502D1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7FA9-7CC4-4048-AF96-3FF0FD82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8E310-260E-4AA3-BC50-DD6A3BC5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8FED9-1561-4D7D-A3DA-6EE63F83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3872A-445F-4F7D-B005-4DC6F643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460C2-4589-41A6-9D30-E81FAC08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A124A-51EB-4F5D-81DA-92D80E7B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F963B-4AA9-4502-83E9-5446ED204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AFD2D-2137-4A95-974A-A0D8B1249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ABA39-2BA1-4AA4-84E3-362E8B0B1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560F6-49E2-4089-AF83-0779A7A3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EED61-ECB5-4AD4-9B34-11FC217A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A16C-5CE7-404E-895D-BAF3D662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0FC3D-DAF0-4D75-971C-A2C1292D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86751-2520-48E6-BE8A-990F79AF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F6976-3A8A-4E35-B360-AEDDF105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28962-5EDA-48C0-9922-4238CEBF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5EF81-F0B9-44A1-9DF4-2FB3A116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3255A-FAFA-45CE-8C38-A42CD4DE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0EF43-5049-48C1-B770-27D0A379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D08E7-B227-407C-A0FE-ABFC87BDE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4221F-E697-40A3-AE2B-6B035F6F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F5312-00FC-41D4-A398-BD98C2864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E3FD-0CBC-4002-8279-2DD739C8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3B0B3-5BF5-41BC-AB36-E5728648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3D2EF-C502-4ED3-8235-D84B583C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A6A21-4D9A-4F1F-BDAB-5FA12DE0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92D43-558E-44E8-A635-713378F1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5C7D2-42FB-4E01-B404-FBBB8A6E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15E95-15C1-4006-B94C-FEDF93D6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E9EDD-F7A5-46F7-964C-F1AC9F3D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85262-3FC5-43A7-B7C3-956F018B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ACCC4-6EDE-498C-89E6-94EDE78B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7A2FC-A375-484D-A459-6B7820536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06E3-0F12-4E41-8788-7631FCB8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11508-57C5-47D9-8AF5-E12E9914D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1FD33-1E5E-49A1-971A-7AF428B08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A1472-206C-43A4-8D8E-7292EBB6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A2A4E-575F-4BE1-BA3E-2A9613C4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24310-B7AD-443B-9734-5F4B524E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50922-73B2-453C-AB03-AB03B3CD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90F51-847D-406D-A3E7-08D09827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BB6B9-9FF6-4D14-B6E6-6AE1A3D7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21236-E0A9-4976-ABC4-1BEB1C28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4A4ED-F233-49B9-A209-F13A5D53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2174-C2AA-4A47-8ACD-4AB0C079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2958C-9BD6-4BED-A9E6-2A0D9F17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CADC5-026B-4980-8FA4-FE0A3764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AA906-5072-4A2A-A0C8-3F7D1340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91507-7A35-4ABF-9781-4D037B2A1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6035D-C0BF-44C9-A65D-259CAF2E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A2604-C0E7-41C9-89A0-CDBE7586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79FD0-4641-4A93-A82D-EF3F7E4B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DE061-4F1A-4924-8B5C-C5796131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33389-7675-47E0-8063-CB26B13D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E9B31-53B4-425A-BA3B-CDC13379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66E5-D1C1-46A4-8D40-91ACCBAE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A416B-B72C-4FD1-B124-A5E1EBD8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8779B-92E5-4EA3-8B54-D64D1CB8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15C63-C2C4-4112-96FB-99D60538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AEC7C-673E-46E4-8959-AF39490E5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83230-3F76-42D4-96B0-CF847DAFA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7B0D0-7866-4927-AECE-66491B4DE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B267F-1A41-48AC-A15D-2EFB2FE3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F0C4B-ACBA-4F91-B835-4D69B280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6063C-D9EC-4910-8610-AAF7AECF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069B0-FE3D-4883-A577-CFF82594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17C9-B0DB-4BBC-A204-3F69A1B2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C6E7C-2311-4781-B50F-FBE8FD4C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6D67D-6215-4039-BE2B-AC9D58E7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8CF04-8BFF-43DC-813F-116A5936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72236-4155-41FD-BBDD-6F08565C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B716A-90E3-491F-8267-8429795B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7C9BE-8CD2-423D-B721-7D6D75376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7E72A-8B93-4EAC-A637-75B952D45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3F425-AE78-4528-86F1-791C54F7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E3B8D-7E39-44BC-AEE5-F4D102DE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6ABC0-F3EE-43C8-8C47-DF049E0F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42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F5A2-6A7E-46C6-9F68-858BFC00726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42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E9CE-46B5-46AE-9EAB-83E81C16D3A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42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9036-55C5-4E98-B122-D0FA609EA61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42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a66ac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a66ac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832B-17F1-44FD-9191-835B8AD5423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42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F355-D70D-4940-99F7-BBE3A1C8A3B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42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a66ac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a66ac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F71A-9360-4D8F-94E5-C34E0B749D6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42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A528-785D-4557-ACA8-FCECE86408A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42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CB1B-7D24-4D8E-A804-3E67DE0BEFA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42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839C-F7F2-4277-BEEB-F586CA31ADB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42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C2A8-76F5-4E39-92DA-07C7D798346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42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8FF3-52C6-4259-861F-F8AF9B69A10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42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78CE-41E0-4ECF-839B-807A2EED070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42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A460-DAFC-4B6A-AF7B-B15C8204A69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42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B634-E6F6-4789-85AE-4A0F00FDB4C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42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D36C-BEB5-441D-A750-3E35D2F6246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42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CBE8-71C1-4037-8C61-A331D3E5581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428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4280" cy="440100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1280" y="436464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7640" y="128916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42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42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4a66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4a66ac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304C-AD35-4617-BAEC-0D9BE34A10E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9fd"/>
            </a:gs>
            <a:gs pos="100000">
              <a:srgbClr val="bfd9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Скругленный прямоугольник 3"/>
          <p:cNvGrpSpPr/>
          <p:nvPr/>
        </p:nvGrpSpPr>
        <p:grpSpPr>
          <a:xfrm>
            <a:off x="1736640" y="-36360"/>
            <a:ext cx="9468000" cy="1481040"/>
            <a:chOff x="1736640" y="-36360"/>
            <a:chExt cx="9468000" cy="1481040"/>
          </a:xfrm>
        </p:grpSpPr>
        <p:pic>
          <p:nvPicPr>
            <p:cNvPr id="1177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1736640" y="-36360"/>
              <a:ext cx="946800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8" name=""/>
            <p:cNvSpPr/>
            <p:nvPr/>
          </p:nvSpPr>
          <p:spPr>
            <a:xfrm>
              <a:off x="1812960" y="171360"/>
              <a:ext cx="89917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Century Gothic"/>
                </a:rPr>
                <a:t>Лекция №3</a:t>
              </a:r>
              <a:endParaRPr b="0" lang="en-US" sz="4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79" name="Скругленный прямоугольник 2"/>
          <p:cNvGrpSpPr/>
          <p:nvPr/>
        </p:nvGrpSpPr>
        <p:grpSpPr>
          <a:xfrm>
            <a:off x="1809720" y="2475000"/>
            <a:ext cx="9620280" cy="3402000"/>
            <a:chOff x="1809720" y="2475000"/>
            <a:chExt cx="9620280" cy="3402000"/>
          </a:xfrm>
        </p:grpSpPr>
        <p:pic>
          <p:nvPicPr>
            <p:cNvPr id="1180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809720" y="2475000"/>
              <a:ext cx="9620280" cy="340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1" name=""/>
            <p:cNvSpPr/>
            <p:nvPr/>
          </p:nvSpPr>
          <p:spPr>
            <a:xfrm>
              <a:off x="2066760" y="2660760"/>
              <a:ext cx="8763120" cy="27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78697b"/>
                  </a:solidFill>
                  <a:latin typeface="Century Gothic"/>
                </a:rPr>
                <a:t>Методология проектирования ИС</a:t>
              </a:r>
              <a:endParaRPr b="0" lang="en-US" sz="4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9fd"/>
            </a:gs>
            <a:gs pos="100000">
              <a:srgbClr val="bfd9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extBox 9" descr=""/>
          <p:cNvPicPr/>
          <p:nvPr/>
        </p:nvPicPr>
        <p:blipFill>
          <a:blip r:embed="rId1"/>
          <a:stretch/>
        </p:blipFill>
        <p:spPr>
          <a:xfrm>
            <a:off x="2036880" y="0"/>
            <a:ext cx="9217080" cy="706320"/>
          </a:xfrm>
          <a:prstGeom prst="rect">
            <a:avLst/>
          </a:prstGeom>
          <a:ln w="0">
            <a:noFill/>
          </a:ln>
        </p:spPr>
      </p:pic>
      <p:grpSp>
        <p:nvGrpSpPr>
          <p:cNvPr id="1210" name="Прямоугольник 5"/>
          <p:cNvGrpSpPr/>
          <p:nvPr/>
        </p:nvGrpSpPr>
        <p:grpSpPr>
          <a:xfrm>
            <a:off x="231840" y="676440"/>
            <a:ext cx="11996640" cy="2805120"/>
            <a:chOff x="231840" y="676440"/>
            <a:chExt cx="11996640" cy="2805120"/>
          </a:xfrm>
        </p:grpSpPr>
        <p:pic>
          <p:nvPicPr>
            <p:cNvPr id="1211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31840" y="676440"/>
              <a:ext cx="11996640" cy="28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2" name=""/>
            <p:cNvSpPr/>
            <p:nvPr/>
          </p:nvSpPr>
          <p:spPr>
            <a:xfrm>
              <a:off x="415800" y="795240"/>
              <a:ext cx="11630160" cy="26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74d81"/>
                  </a:solidFill>
                  <a:latin typeface="Century Gothic"/>
                </a:rPr>
                <a:t>Концептуальное (инфологическое) проектирование</a:t>
              </a:r>
              <a:r>
                <a:rPr b="0" lang="ru-RU" sz="2800" spc="-1" strike="noStrike">
                  <a:solidFill>
                    <a:srgbClr val="374d81"/>
                  </a:solidFill>
                  <a:latin typeface="Century Gothic"/>
                </a:rPr>
                <a:t> — построение семантической модели предметной области, то есть информационной модели наиболее высокого уровня абстракции. На данном этапе выделяются: </a:t>
              </a:r>
              <a:r>
                <a:rPr b="1" i="1" lang="ru-RU" sz="2800" spc="-1" strike="noStrike">
                  <a:solidFill>
                    <a:srgbClr val="374d81"/>
                  </a:solidFill>
                  <a:latin typeface="Century Gothic"/>
                </a:rPr>
                <a:t>сущности, ,атрибуты, связи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1213" name="Рисунок 6" descr="Image2.gif"/>
          <p:cNvPicPr/>
          <p:nvPr/>
        </p:nvPicPr>
        <p:blipFill>
          <a:blip r:embed="rId3"/>
          <a:stretch/>
        </p:blipFill>
        <p:spPr>
          <a:xfrm>
            <a:off x="2557440" y="3354480"/>
            <a:ext cx="753732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9fd"/>
            </a:gs>
            <a:gs pos="100000">
              <a:srgbClr val="bfd9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9" descr=""/>
          <p:cNvPicPr/>
          <p:nvPr/>
        </p:nvPicPr>
        <p:blipFill>
          <a:blip r:embed="rId1"/>
          <a:stretch/>
        </p:blipFill>
        <p:spPr>
          <a:xfrm>
            <a:off x="2036880" y="0"/>
            <a:ext cx="7789680" cy="706320"/>
          </a:xfrm>
          <a:prstGeom prst="rect">
            <a:avLst/>
          </a:prstGeom>
          <a:ln w="0">
            <a:noFill/>
          </a:ln>
        </p:spPr>
      </p:pic>
      <p:grpSp>
        <p:nvGrpSpPr>
          <p:cNvPr id="1215" name="Прямоугольник 5"/>
          <p:cNvGrpSpPr/>
          <p:nvPr/>
        </p:nvGrpSpPr>
        <p:grpSpPr>
          <a:xfrm>
            <a:off x="176040" y="835200"/>
            <a:ext cx="11992320" cy="2176200"/>
            <a:chOff x="176040" y="835200"/>
            <a:chExt cx="11992320" cy="2176200"/>
          </a:xfrm>
        </p:grpSpPr>
        <p:pic>
          <p:nvPicPr>
            <p:cNvPr id="1216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176040" y="835200"/>
              <a:ext cx="11992320" cy="21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7" name=""/>
            <p:cNvSpPr/>
            <p:nvPr/>
          </p:nvSpPr>
          <p:spPr>
            <a:xfrm>
              <a:off x="355680" y="866880"/>
              <a:ext cx="1163160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74d81"/>
                  </a:solidFill>
                  <a:latin typeface="Century Gothic"/>
                </a:rPr>
                <a:t>Логическое (даталогическое) проектирование </a:t>
              </a:r>
              <a:r>
                <a:rPr b="0" lang="ru-RU" sz="2800" spc="-1" strike="noStrike">
                  <a:solidFill>
                    <a:srgbClr val="374d81"/>
                  </a:solidFill>
                  <a:latin typeface="Century Gothic"/>
                </a:rPr>
                <a:t>— создание схемы базы данных на основе конкретной модели данных, например, реляционной модели данных. Выделяются: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74d81"/>
                  </a:solidFill>
                  <a:latin typeface="Century Gothic"/>
                </a:rPr>
                <a:t>записи, элементы данных, связи между записями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1218" name="Рисунок 4" descr="2703011.jpeg"/>
          <p:cNvPicPr/>
          <p:nvPr/>
        </p:nvPicPr>
        <p:blipFill>
          <a:blip r:embed="rId3"/>
          <a:stretch/>
        </p:blipFill>
        <p:spPr>
          <a:xfrm>
            <a:off x="2496960" y="3124080"/>
            <a:ext cx="759636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9fd"/>
            </a:gs>
            <a:gs pos="100000">
              <a:srgbClr val="bfd9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9" name="TextBox 9" descr=""/>
          <p:cNvPicPr/>
          <p:nvPr/>
        </p:nvPicPr>
        <p:blipFill>
          <a:blip r:embed="rId1"/>
          <a:stretch/>
        </p:blipFill>
        <p:spPr>
          <a:xfrm>
            <a:off x="2036880" y="0"/>
            <a:ext cx="7819920" cy="706320"/>
          </a:xfrm>
          <a:prstGeom prst="rect">
            <a:avLst/>
          </a:prstGeom>
          <a:ln w="0">
            <a:noFill/>
          </a:ln>
        </p:spPr>
      </p:pic>
      <p:grpSp>
        <p:nvGrpSpPr>
          <p:cNvPr id="1220" name="Прямоугольник 5"/>
          <p:cNvGrpSpPr/>
          <p:nvPr/>
        </p:nvGrpSpPr>
        <p:grpSpPr>
          <a:xfrm>
            <a:off x="176040" y="701640"/>
            <a:ext cx="11992320" cy="2571840"/>
            <a:chOff x="176040" y="701640"/>
            <a:chExt cx="11992320" cy="2571840"/>
          </a:xfrm>
        </p:grpSpPr>
        <p:pic>
          <p:nvPicPr>
            <p:cNvPr id="1221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176040" y="701640"/>
              <a:ext cx="1199232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2" name=""/>
            <p:cNvSpPr/>
            <p:nvPr/>
          </p:nvSpPr>
          <p:spPr>
            <a:xfrm>
              <a:off x="355680" y="831960"/>
              <a:ext cx="11631600" cy="21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74d81"/>
                  </a:solidFill>
                  <a:latin typeface="Century Gothic"/>
                </a:rPr>
                <a:t>Физическое проектирование</a:t>
              </a:r>
              <a:r>
                <a:rPr b="0" lang="ru-RU" sz="2800" spc="-1" strike="noStrike">
                  <a:solidFill>
                    <a:srgbClr val="374d81"/>
                  </a:solidFill>
                  <a:latin typeface="Century Gothic"/>
                </a:rPr>
                <a:t> — создание схемы базы данных для конкретной СУБД. Добавляет особенности под конкретную БД, связанное не с логикой, а физической реализацией. Выделяют: </a:t>
              </a:r>
              <a:r>
                <a:rPr b="1" lang="ru-RU" sz="2800" spc="-1" strike="noStrike">
                  <a:solidFill>
                    <a:srgbClr val="374d81"/>
                  </a:solidFill>
                  <a:latin typeface="Century Gothic"/>
                </a:rPr>
                <a:t>группирование данных, индексы, методы доступа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1223" name="Рисунок 6" descr="1272179615_pelrbh46pa593hs.jpeg"/>
          <p:cNvPicPr/>
          <p:nvPr/>
        </p:nvPicPr>
        <p:blipFill>
          <a:blip r:embed="rId3"/>
          <a:stretch/>
        </p:blipFill>
        <p:spPr>
          <a:xfrm>
            <a:off x="3665520" y="3103560"/>
            <a:ext cx="5011920" cy="36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9fd"/>
            </a:gs>
            <a:gs pos="100000">
              <a:srgbClr val="bfd9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4" name="TextBox 9" descr=""/>
          <p:cNvPicPr/>
          <p:nvPr/>
        </p:nvPicPr>
        <p:blipFill>
          <a:blip r:embed="rId1"/>
          <a:stretch/>
        </p:blipFill>
        <p:spPr>
          <a:xfrm>
            <a:off x="3865680" y="0"/>
            <a:ext cx="5997600" cy="768240"/>
          </a:xfrm>
          <a:prstGeom prst="rect">
            <a:avLst/>
          </a:prstGeom>
          <a:ln w="0">
            <a:noFill/>
          </a:ln>
        </p:spPr>
      </p:pic>
      <p:grpSp>
        <p:nvGrpSpPr>
          <p:cNvPr id="1225" name="Прямоугольник 5"/>
          <p:cNvGrpSpPr/>
          <p:nvPr/>
        </p:nvGrpSpPr>
        <p:grpSpPr>
          <a:xfrm>
            <a:off x="92160" y="542880"/>
            <a:ext cx="12112560" cy="6321600"/>
            <a:chOff x="92160" y="542880"/>
            <a:chExt cx="12112560" cy="6321600"/>
          </a:xfrm>
        </p:grpSpPr>
        <p:pic>
          <p:nvPicPr>
            <p:cNvPr id="1226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92160" y="542880"/>
              <a:ext cx="12112560" cy="632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7" name=""/>
            <p:cNvSpPr/>
            <p:nvPr/>
          </p:nvSpPr>
          <p:spPr>
            <a:xfrm>
              <a:off x="301680" y="770040"/>
              <a:ext cx="11693520" cy="60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74d81"/>
                  </a:solidFill>
                  <a:latin typeface="Century Gothic"/>
                </a:rPr>
                <a:t>Важная задача – выбор архитектуры будущей ИС и определение ее характеристик:</a:t>
              </a:r>
              <a:endParaRPr b="0" lang="en-US" sz="3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just">
                <a:buClr>
                  <a:srgbClr val="374d81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374d81"/>
                  </a:solidFill>
                  <a:latin typeface="Century Gothic"/>
                </a:rPr>
                <a:t>будет ли это архитектура "файл-сервер" или "клиент-сервер";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just">
                <a:buClr>
                  <a:srgbClr val="374d81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374d81"/>
                  </a:solidFill>
                  <a:latin typeface="Century Gothic"/>
                </a:rPr>
                <a:t>будет ли это 3-уровневая архитектура со следующими слоями: сервер, ПО промежуточного слоя (сервер приложений), клиентское ПО;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just">
                <a:buClr>
                  <a:srgbClr val="374d81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374d81"/>
                  </a:solidFill>
                  <a:latin typeface="Century Gothic"/>
                </a:rPr>
                <a:t>будет ли база данных централизованной или распределенной.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just">
                <a:buClr>
                  <a:srgbClr val="374d81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374d81"/>
                  </a:solidFill>
                  <a:latin typeface="Century Gothic"/>
                </a:rPr>
                <a:t>будет ли база данных однородной, 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just">
                <a:buClr>
                  <a:srgbClr val="374d81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374d81"/>
                  </a:solidFill>
                  <a:latin typeface="Century Gothic"/>
                </a:rPr>
                <a:t>будут ли для достижения должной производительности использоваться параллельные серверы баз данных (например, Oracle Parallel Server, </a:t>
              </a:r>
              <a:r>
                <a:rPr b="0" i="1" lang="ru-RU" sz="2800" spc="-1" strike="noStrike">
                  <a:solidFill>
                    <a:srgbClr val="374d81"/>
                  </a:solidFill>
                  <a:latin typeface="Century Gothic"/>
                </a:rPr>
                <a:t>DB2</a:t>
              </a:r>
              <a:r>
                <a:rPr b="0" lang="ru-RU" sz="2800" spc="-1" strike="noStrike">
                  <a:solidFill>
                    <a:srgbClr val="374d81"/>
                  </a:solidFill>
                  <a:latin typeface="Century Gothic"/>
                </a:rPr>
                <a:t> UDB и т.п.).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9fd"/>
            </a:gs>
            <a:gs pos="100000">
              <a:srgbClr val="bfd9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8" name="TextBox 9" descr=""/>
          <p:cNvPicPr/>
          <p:nvPr/>
        </p:nvPicPr>
        <p:blipFill>
          <a:blip r:embed="rId1"/>
          <a:stretch/>
        </p:blipFill>
        <p:spPr>
          <a:xfrm>
            <a:off x="2706840" y="0"/>
            <a:ext cx="7918200" cy="706320"/>
          </a:xfrm>
          <a:prstGeom prst="rect">
            <a:avLst/>
          </a:prstGeom>
          <a:ln w="0">
            <a:noFill/>
          </a:ln>
        </p:spPr>
      </p:pic>
      <p:grpSp>
        <p:nvGrpSpPr>
          <p:cNvPr id="1229" name="Прямоугольник 5"/>
          <p:cNvGrpSpPr/>
          <p:nvPr/>
        </p:nvGrpSpPr>
        <p:grpSpPr>
          <a:xfrm>
            <a:off x="317520" y="847800"/>
            <a:ext cx="8686800" cy="4840200"/>
            <a:chOff x="317520" y="847800"/>
            <a:chExt cx="8686800" cy="4840200"/>
          </a:xfrm>
        </p:grpSpPr>
        <p:pic>
          <p:nvPicPr>
            <p:cNvPr id="1230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317520" y="847800"/>
              <a:ext cx="8686800" cy="484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1" name=""/>
            <p:cNvSpPr/>
            <p:nvPr/>
          </p:nvSpPr>
          <p:spPr>
            <a:xfrm>
              <a:off x="498600" y="879480"/>
              <a:ext cx="8324640" cy="47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74d81"/>
                  </a:solidFill>
                  <a:latin typeface="Century Gothic"/>
                </a:rPr>
                <a:t>Конечными продуктами </a:t>
              </a:r>
              <a:r>
                <a:rPr b="0" lang="ru-RU" sz="2800" spc="-1" strike="noStrike">
                  <a:solidFill>
                    <a:srgbClr val="374d81"/>
                  </a:solidFill>
                  <a:latin typeface="Century Gothic"/>
                </a:rPr>
                <a:t>этапа проектирования является </a:t>
              </a:r>
              <a:r>
                <a:rPr b="1" i="1" lang="ru-RU" sz="2800" spc="-1" strike="noStrike">
                  <a:solidFill>
                    <a:srgbClr val="374d81"/>
                  </a:solidFill>
                  <a:latin typeface="Century Gothic"/>
                </a:rPr>
                <a:t>технический проект</a:t>
              </a:r>
              <a:r>
                <a:rPr b="1" lang="ru-RU" sz="2800" spc="-1" strike="noStrike">
                  <a:solidFill>
                    <a:srgbClr val="374d81"/>
                  </a:solidFill>
                  <a:latin typeface="Century Gothic"/>
                </a:rPr>
                <a:t> ИС: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just">
                <a:buClr>
                  <a:srgbClr val="374d81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374d81"/>
                  </a:solidFill>
                  <a:latin typeface="Century Gothic"/>
                </a:rPr>
                <a:t>схема базы данных (физическая модель данных)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just">
                <a:buClr>
                  <a:srgbClr val="374d81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374d81"/>
                  </a:solidFill>
                  <a:latin typeface="Century Gothic"/>
                </a:rPr>
                <a:t>набор </a:t>
              </a:r>
              <a:r>
                <a:rPr b="0" i="1" lang="ru-RU" sz="2800" spc="-1" strike="noStrike">
                  <a:solidFill>
                    <a:srgbClr val="374d81"/>
                  </a:solidFill>
                  <a:latin typeface="Century Gothic"/>
                </a:rPr>
                <a:t>спецификаций модулей</a:t>
              </a:r>
              <a:r>
                <a:rPr b="0" lang="ru-RU" sz="2800" spc="-1" strike="noStrike">
                  <a:solidFill>
                    <a:srgbClr val="374d81"/>
                  </a:solidFill>
                  <a:latin typeface="Century Gothic"/>
                </a:rPr>
                <a:t> системы (определяют интерфейсы программ: разметку </a:t>
              </a:r>
              <a:r>
                <a:rPr b="0" i="1" lang="ru-RU" sz="2800" spc="-1" strike="noStrike">
                  <a:solidFill>
                    <a:srgbClr val="374d81"/>
                  </a:solidFill>
                  <a:latin typeface="Century Gothic"/>
                </a:rPr>
                <a:t>меню</a:t>
              </a:r>
              <a:r>
                <a:rPr b="0" lang="ru-RU" sz="2800" spc="-1" strike="noStrike">
                  <a:solidFill>
                    <a:srgbClr val="374d81"/>
                  </a:solidFill>
                  <a:latin typeface="Century Gothic"/>
                </a:rPr>
                <a:t>, вид окон, горячие клавиши и связанные с ними вызовы.) 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just">
                <a:buClr>
                  <a:srgbClr val="374d81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1232" name="Picture 2" descr="http://8cent-emails.com/wp-content/uploads/2012/05/info-marketing-system.jpg"/>
          <p:cNvPicPr/>
          <p:nvPr/>
        </p:nvPicPr>
        <p:blipFill>
          <a:blip r:embed="rId3"/>
          <a:stretch/>
        </p:blipFill>
        <p:spPr>
          <a:xfrm>
            <a:off x="9058320" y="3724200"/>
            <a:ext cx="31338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9fd"/>
            </a:gs>
            <a:gs pos="100000">
              <a:srgbClr val="bfd9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3" name="TextBox 9" descr=""/>
          <p:cNvPicPr/>
          <p:nvPr/>
        </p:nvPicPr>
        <p:blipFill>
          <a:blip r:embed="rId1"/>
          <a:stretch/>
        </p:blipFill>
        <p:spPr>
          <a:xfrm>
            <a:off x="3693960" y="0"/>
            <a:ext cx="4773600" cy="706320"/>
          </a:xfrm>
          <a:prstGeom prst="rect">
            <a:avLst/>
          </a:prstGeom>
          <a:ln w="0">
            <a:noFill/>
          </a:ln>
        </p:spPr>
      </p:pic>
      <p:grpSp>
        <p:nvGrpSpPr>
          <p:cNvPr id="1234" name="Прямоугольник 3"/>
          <p:cNvGrpSpPr/>
          <p:nvPr/>
        </p:nvGrpSpPr>
        <p:grpSpPr>
          <a:xfrm>
            <a:off x="378000" y="1158840"/>
            <a:ext cx="11874240" cy="2614680"/>
            <a:chOff x="378000" y="1158840"/>
            <a:chExt cx="11874240" cy="2614680"/>
          </a:xfrm>
        </p:grpSpPr>
        <p:pic>
          <p:nvPicPr>
            <p:cNvPr id="1235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378000" y="1158840"/>
              <a:ext cx="11874240" cy="261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6" name=""/>
            <p:cNvSpPr/>
            <p:nvPr/>
          </p:nvSpPr>
          <p:spPr>
            <a:xfrm>
              <a:off x="560520" y="1187280"/>
              <a:ext cx="11631600" cy="24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374d81"/>
                  </a:solidFill>
                  <a:latin typeface="Century Gothic"/>
                </a:rPr>
                <a:t>На </a:t>
              </a:r>
              <a:r>
                <a:rPr b="1" i="1" lang="ru-RU" sz="2800" spc="-1" strike="noStrike">
                  <a:solidFill>
                    <a:srgbClr val="374d81"/>
                  </a:solidFill>
                  <a:latin typeface="Century Gothic"/>
                </a:rPr>
                <a:t>этапе реализации</a:t>
              </a:r>
              <a:r>
                <a:rPr b="0" lang="ru-RU" sz="2800" spc="-1" strike="noStrike">
                  <a:solidFill>
                    <a:srgbClr val="374d81"/>
                  </a:solidFill>
                  <a:latin typeface="Century Gothic"/>
                </a:rPr>
                <a:t> осуществляется: 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buClr>
                  <a:srgbClr val="374d81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374d81"/>
                  </a:solidFill>
                  <a:latin typeface="Century Gothic"/>
                </a:rPr>
                <a:t>создание программного обеспечения системы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buClr>
                  <a:srgbClr val="374d81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374d81"/>
                  </a:solidFill>
                  <a:latin typeface="Century Gothic"/>
                </a:rPr>
                <a:t> </a:t>
              </a:r>
              <a:r>
                <a:rPr b="0" lang="ru-RU" sz="2800" spc="-1" strike="noStrike">
                  <a:solidFill>
                    <a:srgbClr val="374d81"/>
                  </a:solidFill>
                  <a:latin typeface="Century Gothic"/>
                </a:rPr>
                <a:t>установка технических средств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buClr>
                  <a:srgbClr val="374d81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374d81"/>
                  </a:solidFill>
                  <a:latin typeface="Century Gothic"/>
                </a:rPr>
                <a:t>разработка эксплуатационной документации.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9fd"/>
            </a:gs>
            <a:gs pos="100000">
              <a:srgbClr val="bfd9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extBox 9" descr=""/>
          <p:cNvPicPr/>
          <p:nvPr/>
        </p:nvPicPr>
        <p:blipFill>
          <a:blip r:embed="rId1"/>
          <a:stretch/>
        </p:blipFill>
        <p:spPr>
          <a:xfrm>
            <a:off x="3693960" y="0"/>
            <a:ext cx="5321520" cy="706320"/>
          </a:xfrm>
          <a:prstGeom prst="rect">
            <a:avLst/>
          </a:prstGeom>
          <a:ln w="0">
            <a:noFill/>
          </a:ln>
        </p:spPr>
      </p:pic>
      <p:grpSp>
        <p:nvGrpSpPr>
          <p:cNvPr id="1238" name="Прямоугольник 3"/>
          <p:cNvGrpSpPr/>
          <p:nvPr/>
        </p:nvGrpSpPr>
        <p:grpSpPr>
          <a:xfrm>
            <a:off x="274680" y="817560"/>
            <a:ext cx="11844360" cy="882720"/>
            <a:chOff x="274680" y="817560"/>
            <a:chExt cx="11844360" cy="882720"/>
          </a:xfrm>
        </p:grpSpPr>
        <p:pic>
          <p:nvPicPr>
            <p:cNvPr id="1239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274680" y="817560"/>
              <a:ext cx="11844360" cy="8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0" name=""/>
            <p:cNvSpPr/>
            <p:nvPr/>
          </p:nvSpPr>
          <p:spPr>
            <a:xfrm>
              <a:off x="425520" y="844560"/>
              <a:ext cx="1163160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374d81"/>
                  </a:solidFill>
                  <a:latin typeface="Century Gothic"/>
                </a:rPr>
                <a:t>Этап тестирования</a:t>
              </a:r>
              <a:r>
                <a:rPr b="0" lang="ru-RU" sz="2400" spc="-1" strike="noStrike">
                  <a:solidFill>
                    <a:srgbClr val="374d81"/>
                  </a:solidFill>
                  <a:latin typeface="Century Gothic"/>
                </a:rPr>
                <a:t> обычно оказывается распределенным во времени.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1241" name="Схема 1" descr=""/>
          <p:cNvPicPr/>
          <p:nvPr/>
        </p:nvPicPr>
        <p:blipFill>
          <a:blip r:embed="rId3"/>
          <a:stretch/>
        </p:blipFill>
        <p:spPr>
          <a:xfrm>
            <a:off x="1487520" y="1719360"/>
            <a:ext cx="1011384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9fd"/>
            </a:gs>
            <a:gs pos="100000">
              <a:srgbClr val="bfd9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2" name="TextBox 9" descr=""/>
          <p:cNvPicPr/>
          <p:nvPr/>
        </p:nvPicPr>
        <p:blipFill>
          <a:blip r:embed="rId1"/>
          <a:stretch/>
        </p:blipFill>
        <p:spPr>
          <a:xfrm>
            <a:off x="1090440" y="0"/>
            <a:ext cx="10571400" cy="706320"/>
          </a:xfrm>
          <a:prstGeom prst="rect">
            <a:avLst/>
          </a:prstGeom>
          <a:ln w="0">
            <a:noFill/>
          </a:ln>
        </p:spPr>
      </p:pic>
      <p:grpSp>
        <p:nvGrpSpPr>
          <p:cNvPr id="1243" name="Прямоугольник 3"/>
          <p:cNvGrpSpPr/>
          <p:nvPr/>
        </p:nvGrpSpPr>
        <p:grpSpPr>
          <a:xfrm>
            <a:off x="407880" y="871560"/>
            <a:ext cx="11844360" cy="884160"/>
            <a:chOff x="407880" y="871560"/>
            <a:chExt cx="11844360" cy="884160"/>
          </a:xfrm>
        </p:grpSpPr>
        <p:pic>
          <p:nvPicPr>
            <p:cNvPr id="1244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407880" y="871560"/>
              <a:ext cx="1184436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5" name=""/>
            <p:cNvSpPr/>
            <p:nvPr/>
          </p:nvSpPr>
          <p:spPr>
            <a:xfrm>
              <a:off x="560520" y="901800"/>
              <a:ext cx="1163160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74d81"/>
                  </a:solidFill>
                  <a:latin typeface="Century Gothic"/>
                </a:rPr>
                <a:t>Этап внедрения </a:t>
              </a:r>
              <a:r>
                <a:rPr b="0" lang="ru-RU" sz="2400" spc="-1" strike="noStrike">
                  <a:solidFill>
                    <a:srgbClr val="374d81"/>
                  </a:solidFill>
                  <a:latin typeface="Century Gothic"/>
                </a:rPr>
                <a:t>включает в себя следующий комплекс мероприятий: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1246" name="Схема 2" descr=""/>
          <p:cNvPicPr/>
          <p:nvPr/>
        </p:nvPicPr>
        <p:blipFill>
          <a:blip r:embed="rId3"/>
          <a:stretch/>
        </p:blipFill>
        <p:spPr>
          <a:xfrm>
            <a:off x="2419200" y="1847880"/>
            <a:ext cx="865044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9fd"/>
            </a:gs>
            <a:gs pos="100000">
              <a:srgbClr val="bfd9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7" name="TextBox 9" descr=""/>
          <p:cNvPicPr/>
          <p:nvPr/>
        </p:nvPicPr>
        <p:blipFill>
          <a:blip r:embed="rId1"/>
          <a:stretch/>
        </p:blipFill>
        <p:spPr>
          <a:xfrm>
            <a:off x="1090440" y="0"/>
            <a:ext cx="10571400" cy="706320"/>
          </a:xfrm>
          <a:prstGeom prst="rect">
            <a:avLst/>
          </a:prstGeom>
          <a:ln w="0">
            <a:noFill/>
          </a:ln>
        </p:spPr>
      </p:pic>
      <p:grpSp>
        <p:nvGrpSpPr>
          <p:cNvPr id="1248" name="Прямоугольник 3"/>
          <p:cNvGrpSpPr/>
          <p:nvPr/>
        </p:nvGrpSpPr>
        <p:grpSpPr>
          <a:xfrm>
            <a:off x="1189080" y="927000"/>
            <a:ext cx="10283760" cy="889200"/>
            <a:chOff x="1189080" y="927000"/>
            <a:chExt cx="10283760" cy="889200"/>
          </a:xfrm>
        </p:grpSpPr>
        <p:pic>
          <p:nvPicPr>
            <p:cNvPr id="1249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189080" y="927000"/>
              <a:ext cx="10283760" cy="8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0" name=""/>
            <p:cNvSpPr/>
            <p:nvPr/>
          </p:nvSpPr>
          <p:spPr>
            <a:xfrm>
              <a:off x="1341360" y="958680"/>
              <a:ext cx="1006956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74d81"/>
                  </a:solidFill>
                  <a:latin typeface="Century Gothic"/>
                </a:rPr>
                <a:t>Процесс</a:t>
              </a:r>
              <a:r>
                <a:rPr b="1" i="1" lang="ru-RU" sz="2400" spc="-1" strike="noStrike">
                  <a:solidFill>
                    <a:srgbClr val="374d81"/>
                  </a:solidFill>
                  <a:latin typeface="Century Gothic"/>
                </a:rPr>
                <a:t> </a:t>
              </a:r>
              <a:r>
                <a:rPr b="1" lang="ru-RU" sz="2400" spc="-1" strike="noStrike">
                  <a:solidFill>
                    <a:srgbClr val="374d81"/>
                  </a:solidFill>
                  <a:latin typeface="Century Gothic"/>
                </a:rPr>
                <a:t>эксплуатации </a:t>
              </a:r>
              <a:r>
                <a:rPr b="0" lang="ru-RU" sz="2400" spc="-1" strike="noStrike">
                  <a:solidFill>
                    <a:srgbClr val="374d81"/>
                  </a:solidFill>
                  <a:latin typeface="Century Gothic"/>
                </a:rPr>
                <a:t>включает следующие действия</a:t>
              </a:r>
              <a:r>
                <a:rPr b="1" i="1" lang="ru-RU" sz="2400" spc="-1" strike="noStrike">
                  <a:solidFill>
                    <a:srgbClr val="374d81"/>
                  </a:solidFill>
                  <a:latin typeface="Century Gothic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1251" name="Схема 1" descr=""/>
          <p:cNvPicPr/>
          <p:nvPr/>
        </p:nvPicPr>
        <p:blipFill>
          <a:blip r:embed="rId3"/>
          <a:stretch/>
        </p:blipFill>
        <p:spPr>
          <a:xfrm>
            <a:off x="2859120" y="1871640"/>
            <a:ext cx="7388280" cy="4730760"/>
          </a:xfrm>
          <a:prstGeom prst="rect">
            <a:avLst/>
          </a:prstGeom>
          <a:ln w="0">
            <a:noFill/>
          </a:ln>
        </p:spPr>
      </p:pic>
      <p:grpSp>
        <p:nvGrpSpPr>
          <p:cNvPr id="1252" name="Прямоугольник 4"/>
          <p:cNvGrpSpPr/>
          <p:nvPr/>
        </p:nvGrpSpPr>
        <p:grpSpPr>
          <a:xfrm>
            <a:off x="785880" y="1316160"/>
            <a:ext cx="11180520" cy="4383000"/>
            <a:chOff x="785880" y="1316160"/>
            <a:chExt cx="11180520" cy="4383000"/>
          </a:xfrm>
        </p:grpSpPr>
        <p:pic>
          <p:nvPicPr>
            <p:cNvPr id="1253" name="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785880" y="1316160"/>
              <a:ext cx="11180520" cy="43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4" name=""/>
            <p:cNvSpPr/>
            <p:nvPr/>
          </p:nvSpPr>
          <p:spPr>
            <a:xfrm>
              <a:off x="950760" y="1344600"/>
              <a:ext cx="10850760" cy="417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374d81"/>
                  </a:solidFill>
                  <a:latin typeface="Century Gothic"/>
                </a:rPr>
                <a:t>	</a:t>
              </a:r>
              <a:r>
                <a:rPr b="1" lang="ru-RU" sz="2600" spc="-1" strike="noStrike">
                  <a:solidFill>
                    <a:srgbClr val="374d81"/>
                  </a:solidFill>
                  <a:latin typeface="Century Gothic"/>
                </a:rPr>
                <a:t>Процесс сопровождения </a:t>
              </a:r>
              <a:r>
                <a:rPr b="0" lang="ru-RU" sz="2600" spc="-1" strike="noStrike">
                  <a:solidFill>
                    <a:srgbClr val="374d81"/>
                  </a:solidFill>
                  <a:latin typeface="Century Gothic"/>
                </a:rPr>
                <a:t>предусматривает действия и задачи, выполняемые сопровождающей организацией. Данный процесс активизируется при изменениях (модификациях) программного продукта и соответствующей документации, вызванных возникшими проблемами или потребностями в модернизации либо адаптации ПО. </a:t>
              </a:r>
              <a:endParaRPr b="0" lang="en-US" sz="26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374d81"/>
                  </a:solidFill>
                  <a:latin typeface="Century Gothic"/>
                </a:rPr>
                <a:t>	</a:t>
              </a:r>
              <a:r>
                <a:rPr b="1" lang="ru-RU" sz="2600" spc="-1" strike="noStrike">
                  <a:solidFill>
                    <a:srgbClr val="374d81"/>
                  </a:solidFill>
                  <a:latin typeface="Century Gothic"/>
                </a:rPr>
                <a:t>Сопровождение </a:t>
              </a:r>
              <a:r>
                <a:rPr b="0" lang="ru-RU" sz="2600" spc="-1" strike="noStrike">
                  <a:solidFill>
                    <a:srgbClr val="374d81"/>
                  </a:solidFill>
                  <a:latin typeface="Century Gothic"/>
                </a:rPr>
                <a:t>– внесение изменений в ПО в целях исправления ошибок, повышения производительности или адаптации к изменившимся условиям работы или требованиям. </a:t>
              </a:r>
              <a:endParaRPr b="0" lang="en-US" sz="2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1255" name="Схема 2" descr=""/>
          <p:cNvPicPr/>
          <p:nvPr/>
        </p:nvPicPr>
        <p:blipFill>
          <a:blip r:embed="rId5"/>
          <a:stretch/>
        </p:blipFill>
        <p:spPr>
          <a:xfrm>
            <a:off x="1359000" y="457200"/>
            <a:ext cx="1025352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9fd"/>
            </a:gs>
            <a:gs pos="100000">
              <a:srgbClr val="bfd9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2" name="TextBox 9" descr=""/>
          <p:cNvPicPr/>
          <p:nvPr/>
        </p:nvPicPr>
        <p:blipFill>
          <a:blip r:embed="rId1"/>
          <a:stretch/>
        </p:blipFill>
        <p:spPr>
          <a:xfrm>
            <a:off x="828720" y="55440"/>
            <a:ext cx="11058480" cy="712800"/>
          </a:xfrm>
          <a:prstGeom prst="rect">
            <a:avLst/>
          </a:prstGeom>
          <a:ln w="0">
            <a:noFill/>
          </a:ln>
        </p:spPr>
      </p:pic>
      <p:pic>
        <p:nvPicPr>
          <p:cNvPr id="1183" name="Схема 2" descr=""/>
          <p:cNvPicPr/>
          <p:nvPr/>
        </p:nvPicPr>
        <p:blipFill>
          <a:blip r:embed="rId2"/>
          <a:stretch/>
        </p:blipFill>
        <p:spPr>
          <a:xfrm>
            <a:off x="1749600" y="914400"/>
            <a:ext cx="9192960" cy="5851440"/>
          </a:xfrm>
          <a:prstGeom prst="rect">
            <a:avLst/>
          </a:prstGeom>
          <a:ln w="0">
            <a:noFill/>
          </a:ln>
        </p:spPr>
      </p:pic>
      <p:grpSp>
        <p:nvGrpSpPr>
          <p:cNvPr id="1184" name="Прямоугольник 6"/>
          <p:cNvGrpSpPr/>
          <p:nvPr/>
        </p:nvGrpSpPr>
        <p:grpSpPr>
          <a:xfrm>
            <a:off x="347760" y="658800"/>
            <a:ext cx="11636280" cy="1494000"/>
            <a:chOff x="347760" y="658800"/>
            <a:chExt cx="11636280" cy="1494000"/>
          </a:xfrm>
        </p:grpSpPr>
        <p:pic>
          <p:nvPicPr>
            <p:cNvPr id="1185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347760" y="658800"/>
              <a:ext cx="11636280" cy="14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6" name=""/>
            <p:cNvSpPr/>
            <p:nvPr/>
          </p:nvSpPr>
          <p:spPr>
            <a:xfrm>
              <a:off x="498600" y="765000"/>
              <a:ext cx="1125828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374d81"/>
                  </a:solidFill>
                  <a:latin typeface="Century Gothic"/>
                </a:rPr>
                <a:t>Цель проекта </a:t>
              </a:r>
              <a:r>
                <a:rPr b="0" lang="ru-RU" sz="2400" spc="-1" strike="noStrike">
                  <a:solidFill>
                    <a:srgbClr val="374d81"/>
                  </a:solidFill>
                  <a:latin typeface="Century Gothic"/>
                </a:rPr>
                <a:t>можно определить </a:t>
              </a:r>
              <a:r>
                <a:rPr b="0" lang="ru-RU" sz="2300" spc="-1" strike="noStrike">
                  <a:solidFill>
                    <a:srgbClr val="374d81"/>
                  </a:solidFill>
                  <a:latin typeface="Century Gothic"/>
                </a:rPr>
                <a:t>как</a:t>
              </a:r>
              <a:r>
                <a:rPr b="0" lang="ru-RU" sz="2400" spc="-1" strike="noStrike">
                  <a:solidFill>
                    <a:srgbClr val="374d81"/>
                  </a:solidFill>
                  <a:latin typeface="Century Gothic"/>
                </a:rPr>
                <a:t> решение ряда взаимосвязанных задач, включающих в себя обеспечение на момент </a:t>
              </a:r>
              <a:r>
                <a:rPr b="0" i="1" lang="ru-RU" sz="2400" spc="-1" strike="noStrike">
                  <a:solidFill>
                    <a:srgbClr val="374d81"/>
                  </a:solidFill>
                  <a:latin typeface="Century Gothic"/>
                </a:rPr>
                <a:t>запуска системы</a:t>
              </a:r>
              <a:r>
                <a:rPr b="0" lang="ru-RU" sz="2400" spc="-1" strike="noStrike">
                  <a:solidFill>
                    <a:srgbClr val="374d81"/>
                  </a:solidFill>
                  <a:latin typeface="Century Gothic"/>
                </a:rPr>
                <a:t> и в течение всего времени ее эксплуатации: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1187" name="Схема 3" descr=""/>
          <p:cNvPicPr/>
          <p:nvPr/>
        </p:nvPicPr>
        <p:blipFill>
          <a:blip r:embed="rId4"/>
          <a:stretch/>
        </p:blipFill>
        <p:spPr>
          <a:xfrm>
            <a:off x="1951200" y="1689120"/>
            <a:ext cx="827856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9fd"/>
            </a:gs>
            <a:gs pos="100000">
              <a:srgbClr val="bfd9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8" name="TextBox 9" descr=""/>
          <p:cNvPicPr/>
          <p:nvPr/>
        </p:nvPicPr>
        <p:blipFill>
          <a:blip r:embed="rId1"/>
          <a:stretch/>
        </p:blipFill>
        <p:spPr>
          <a:xfrm>
            <a:off x="3828960" y="0"/>
            <a:ext cx="5388120" cy="706320"/>
          </a:xfrm>
          <a:prstGeom prst="rect">
            <a:avLst/>
          </a:prstGeom>
          <a:ln w="0">
            <a:noFill/>
          </a:ln>
        </p:spPr>
      </p:pic>
      <p:pic>
        <p:nvPicPr>
          <p:cNvPr id="1189" name="Схема 1" descr=""/>
          <p:cNvPicPr/>
          <p:nvPr/>
        </p:nvPicPr>
        <p:blipFill>
          <a:blip r:embed="rId2"/>
          <a:stretch/>
        </p:blipFill>
        <p:spPr>
          <a:xfrm>
            <a:off x="2103480" y="817560"/>
            <a:ext cx="89787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9fd"/>
            </a:gs>
            <a:gs pos="100000">
              <a:srgbClr val="bfd9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0" name="TextBox 9" descr=""/>
          <p:cNvPicPr/>
          <p:nvPr/>
        </p:nvPicPr>
        <p:blipFill>
          <a:blip r:embed="rId1"/>
          <a:stretch/>
        </p:blipFill>
        <p:spPr>
          <a:xfrm>
            <a:off x="993600" y="36360"/>
            <a:ext cx="10320480" cy="706680"/>
          </a:xfrm>
          <a:prstGeom prst="rect">
            <a:avLst/>
          </a:prstGeom>
          <a:ln w="0">
            <a:noFill/>
          </a:ln>
        </p:spPr>
      </p:pic>
      <p:grpSp>
        <p:nvGrpSpPr>
          <p:cNvPr id="1191" name="Прямоугольник 3"/>
          <p:cNvGrpSpPr/>
          <p:nvPr/>
        </p:nvGrpSpPr>
        <p:grpSpPr>
          <a:xfrm>
            <a:off x="281160" y="596880"/>
            <a:ext cx="11923560" cy="1792440"/>
            <a:chOff x="281160" y="596880"/>
            <a:chExt cx="11923560" cy="1792440"/>
          </a:xfrm>
        </p:grpSpPr>
        <p:pic>
          <p:nvPicPr>
            <p:cNvPr id="1192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281160" y="596880"/>
              <a:ext cx="11923560" cy="17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3" name=""/>
            <p:cNvSpPr/>
            <p:nvPr/>
          </p:nvSpPr>
          <p:spPr>
            <a:xfrm>
              <a:off x="428760" y="730080"/>
              <a:ext cx="11631600" cy="137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374d81"/>
                  </a:solidFill>
                  <a:latin typeface="Century Gothic"/>
                </a:rPr>
                <a:t>Целью начальных </a:t>
              </a:r>
              <a:r>
                <a:rPr b="0" i="1" lang="ru-RU" sz="2300" spc="-1" strike="noStrike">
                  <a:solidFill>
                    <a:srgbClr val="374d81"/>
                  </a:solidFill>
                  <a:latin typeface="Century Gothic"/>
                </a:rPr>
                <a:t>этапов создания ИС</a:t>
              </a:r>
              <a:r>
                <a:rPr b="0" lang="ru-RU" sz="2300" spc="-1" strike="noStrike">
                  <a:solidFill>
                    <a:srgbClr val="374d81"/>
                  </a:solidFill>
                  <a:latin typeface="Century Gothic"/>
                </a:rPr>
                <a:t>, выполняемых на стадии анализа деятельности организации, является </a:t>
              </a:r>
              <a:r>
                <a:rPr b="1" i="1" lang="ru-RU" sz="2300" spc="-1" strike="noStrike">
                  <a:solidFill>
                    <a:srgbClr val="374d81"/>
                  </a:solidFill>
                  <a:latin typeface="Century Gothic"/>
                </a:rPr>
                <a:t>формирование требований к ИС</a:t>
              </a:r>
              <a:r>
                <a:rPr b="0" lang="ru-RU" sz="2300" spc="-1" strike="noStrike">
                  <a:solidFill>
                    <a:srgbClr val="374d81"/>
                  </a:solidFill>
                  <a:latin typeface="Century Gothic"/>
                </a:rPr>
                <a:t>, корректно и точно отражающих цели и задачи организации-заказчика. </a:t>
              </a:r>
              <a:r>
                <a:rPr b="1" lang="ru-RU" sz="2300" spc="-1" strike="noStrike">
                  <a:solidFill>
                    <a:srgbClr val="374d81"/>
                  </a:solidFill>
                  <a:latin typeface="Century Gothic"/>
                </a:rPr>
                <a:t>Формируются:</a:t>
              </a:r>
              <a:endParaRPr b="0" lang="en-US" sz="23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pic>
        <p:nvPicPr>
          <p:cNvPr id="1194" name="Схема 2" descr=""/>
          <p:cNvPicPr/>
          <p:nvPr/>
        </p:nvPicPr>
        <p:blipFill>
          <a:blip r:embed="rId3"/>
          <a:stretch/>
        </p:blipFill>
        <p:spPr>
          <a:xfrm>
            <a:off x="2139840" y="2023920"/>
            <a:ext cx="822960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9fd"/>
            </a:gs>
            <a:gs pos="100000">
              <a:srgbClr val="bfd9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5" name="TextBox 9" descr=""/>
          <p:cNvPicPr/>
          <p:nvPr/>
        </p:nvPicPr>
        <p:blipFill>
          <a:blip r:embed="rId1"/>
          <a:stretch/>
        </p:blipFill>
        <p:spPr>
          <a:xfrm>
            <a:off x="3693960" y="0"/>
            <a:ext cx="4608720" cy="706320"/>
          </a:xfrm>
          <a:prstGeom prst="rect">
            <a:avLst/>
          </a:prstGeom>
          <a:ln w="0">
            <a:noFill/>
          </a:ln>
        </p:spPr>
      </p:pic>
      <p:grpSp>
        <p:nvGrpSpPr>
          <p:cNvPr id="1196" name="Прямоугольник 4"/>
          <p:cNvGrpSpPr/>
          <p:nvPr/>
        </p:nvGrpSpPr>
        <p:grpSpPr>
          <a:xfrm>
            <a:off x="85680" y="719280"/>
            <a:ext cx="12039480" cy="5846760"/>
            <a:chOff x="85680" y="719280"/>
            <a:chExt cx="12039480" cy="5846760"/>
          </a:xfrm>
        </p:grpSpPr>
        <p:pic>
          <p:nvPicPr>
            <p:cNvPr id="1197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85680" y="719280"/>
              <a:ext cx="12039480" cy="584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8" name=""/>
            <p:cNvSpPr/>
            <p:nvPr/>
          </p:nvSpPr>
          <p:spPr>
            <a:xfrm>
              <a:off x="264960" y="750960"/>
              <a:ext cx="11631600" cy="57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374d81"/>
                  </a:solidFill>
                  <a:latin typeface="Century Gothic"/>
                </a:rPr>
                <a:t>Модель данных ( Data Model )</a:t>
              </a:r>
              <a:r>
                <a:rPr b="0" lang="ru-RU" sz="2800" spc="-1" strike="noStrike">
                  <a:solidFill>
                    <a:srgbClr val="374d81"/>
                  </a:solidFill>
                  <a:latin typeface="Century Gothic"/>
                </a:rPr>
                <a:t> - логическая структура данных, которая представляет присущие этим данным свойства, не зависимые от аппаратного и программного обеспечения и не связанные с функционированием компьютера. 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800" spc="-1" strike="noStrike">
                  <a:solidFill>
                    <a:srgbClr val="374d81"/>
                  </a:solidFill>
                  <a:latin typeface="Century Gothic"/>
                </a:rPr>
                <a:t>Модель данных: 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buClr>
                  <a:srgbClr val="374d81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374d81"/>
                  </a:solidFill>
                  <a:latin typeface="Century Gothic"/>
                </a:rPr>
                <a:t>ограничивает возможность выбора СУБД; 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buClr>
                  <a:srgbClr val="374d81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374d81"/>
                  </a:solidFill>
                  <a:latin typeface="Century Gothic"/>
                </a:rPr>
                <a:t>определяет и методы создания дружественного интерфейса пользователя за счет средств СУБД;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buClr>
                  <a:srgbClr val="374d81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374d81"/>
                  </a:solidFill>
                  <a:latin typeface="Century Gothic"/>
                </a:rPr>
                <a:t>требует приведения представлений пользователя о данных и результатах их обработки к определенному уровню понимания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9fd"/>
            </a:gs>
            <a:gs pos="100000">
              <a:srgbClr val="bfd9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TextBox 9" descr=""/>
          <p:cNvPicPr/>
          <p:nvPr/>
        </p:nvPicPr>
        <p:blipFill>
          <a:blip r:embed="rId1"/>
          <a:stretch/>
        </p:blipFill>
        <p:spPr>
          <a:xfrm>
            <a:off x="2017800" y="0"/>
            <a:ext cx="8978760" cy="706320"/>
          </a:xfrm>
          <a:prstGeom prst="rect">
            <a:avLst/>
          </a:prstGeom>
          <a:ln w="0">
            <a:noFill/>
          </a:ln>
        </p:spPr>
      </p:pic>
      <p:pic>
        <p:nvPicPr>
          <p:cNvPr id="1200" name="Рисунок 5" descr=""/>
          <p:cNvPicPr/>
          <p:nvPr/>
        </p:nvPicPr>
        <p:blipFill>
          <a:blip r:embed="rId2"/>
          <a:stretch/>
        </p:blipFill>
        <p:spPr>
          <a:xfrm>
            <a:off x="785880" y="928800"/>
            <a:ext cx="1093320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9fd"/>
            </a:gs>
            <a:gs pos="100000">
              <a:srgbClr val="bfd9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1" name="TextBox 9" descr=""/>
          <p:cNvPicPr/>
          <p:nvPr/>
        </p:nvPicPr>
        <p:blipFill>
          <a:blip r:embed="rId1"/>
          <a:stretch/>
        </p:blipFill>
        <p:spPr>
          <a:xfrm>
            <a:off x="2017800" y="0"/>
            <a:ext cx="8978760" cy="706320"/>
          </a:xfrm>
          <a:prstGeom prst="rect">
            <a:avLst/>
          </a:prstGeom>
          <a:ln w="0">
            <a:noFill/>
          </a:ln>
        </p:spPr>
      </p:pic>
      <p:pic>
        <p:nvPicPr>
          <p:cNvPr id="1202" name="Рисунок 3" descr=""/>
          <p:cNvPicPr/>
          <p:nvPr/>
        </p:nvPicPr>
        <p:blipFill>
          <a:blip r:embed="rId2"/>
          <a:stretch/>
        </p:blipFill>
        <p:spPr>
          <a:xfrm>
            <a:off x="1344600" y="853920"/>
            <a:ext cx="989172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9fd"/>
            </a:gs>
            <a:gs pos="100000">
              <a:srgbClr val="bfd9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3" name="Рисунок 4" descr="риски.PNG"/>
          <p:cNvPicPr/>
          <p:nvPr/>
        </p:nvPicPr>
        <p:blipFill>
          <a:blip r:embed="rId1"/>
          <a:stretch/>
        </p:blipFill>
        <p:spPr>
          <a:xfrm>
            <a:off x="2270160" y="430200"/>
            <a:ext cx="739620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9fd"/>
            </a:gs>
            <a:gs pos="100000">
              <a:srgbClr val="bfd9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4" name="TextBox 9" descr=""/>
          <p:cNvPicPr/>
          <p:nvPr/>
        </p:nvPicPr>
        <p:blipFill>
          <a:blip r:embed="rId1"/>
          <a:stretch/>
        </p:blipFill>
        <p:spPr>
          <a:xfrm>
            <a:off x="3108240" y="0"/>
            <a:ext cx="6364440" cy="706320"/>
          </a:xfrm>
          <a:prstGeom prst="rect">
            <a:avLst/>
          </a:prstGeom>
          <a:ln w="0">
            <a:noFill/>
          </a:ln>
        </p:spPr>
      </p:pic>
      <p:pic>
        <p:nvPicPr>
          <p:cNvPr id="1205" name="Рисунок 4" descr="ansi.gif"/>
          <p:cNvPicPr/>
          <p:nvPr/>
        </p:nvPicPr>
        <p:blipFill>
          <a:blip r:embed="rId2"/>
          <a:stretch/>
        </p:blipFill>
        <p:spPr>
          <a:xfrm>
            <a:off x="2243160" y="708120"/>
            <a:ext cx="8093160" cy="2359080"/>
          </a:xfrm>
          <a:prstGeom prst="rect">
            <a:avLst/>
          </a:prstGeom>
          <a:ln w="0">
            <a:noFill/>
          </a:ln>
        </p:spPr>
      </p:pic>
      <p:grpSp>
        <p:nvGrpSpPr>
          <p:cNvPr id="1206" name="Прямоугольник 5"/>
          <p:cNvGrpSpPr/>
          <p:nvPr/>
        </p:nvGrpSpPr>
        <p:grpSpPr>
          <a:xfrm>
            <a:off x="291960" y="2955960"/>
            <a:ext cx="11876400" cy="3908520"/>
            <a:chOff x="291960" y="2955960"/>
            <a:chExt cx="11876400" cy="3908520"/>
          </a:xfrm>
        </p:grpSpPr>
        <p:pic>
          <p:nvPicPr>
            <p:cNvPr id="1207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291960" y="2955960"/>
              <a:ext cx="11876400" cy="390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8" name=""/>
            <p:cNvSpPr/>
            <p:nvPr/>
          </p:nvSpPr>
          <p:spPr>
            <a:xfrm>
              <a:off x="474840" y="2987640"/>
              <a:ext cx="11631600" cy="37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374d81"/>
                  </a:solidFill>
                  <a:latin typeface="Century Gothic"/>
                </a:rPr>
                <a:t>Внешнее представление (внешняя схема) данных</a:t>
              </a:r>
              <a:r>
                <a:rPr b="0" lang="ru-RU" sz="2800" spc="-1" strike="noStrike">
                  <a:solidFill>
                    <a:srgbClr val="374d81"/>
                  </a:solidFill>
                  <a:latin typeface="Century Gothic"/>
                </a:rPr>
                <a:t> -совокупность требований со стороны конкретной функции, выполняемой пользователем. Т.е. то что получается извлечь из заказчика. 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374d81"/>
                  </a:solidFill>
                  <a:latin typeface="Century Gothic"/>
                </a:rPr>
                <a:t>Концептуальная схема</a:t>
              </a:r>
              <a:r>
                <a:rPr b="0" lang="ru-RU" sz="2800" spc="-1" strike="noStrike">
                  <a:solidFill>
                    <a:srgbClr val="374d81"/>
                  </a:solidFill>
                  <a:latin typeface="Century Gothic"/>
                </a:rPr>
                <a:t> - полная совокупность всех требований к данным, полученной из пользовательских представлений о реальном мире. 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374d81"/>
                  </a:solidFill>
                  <a:latin typeface="Century Gothic"/>
                </a:rPr>
                <a:t>Внутренняя схема</a:t>
              </a:r>
              <a:r>
                <a:rPr b="0" lang="ru-RU" sz="2800" spc="-1" strike="noStrike">
                  <a:solidFill>
                    <a:srgbClr val="374d81"/>
                  </a:solidFill>
                  <a:latin typeface="Century Gothic"/>
                </a:rPr>
                <a:t> - сама база данных.</a:t>
              </a:r>
              <a:endParaRPr b="0" lang="en-US" sz="2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1T06:38:04Z</dcterms:created>
  <dc:creator>masa</dc:creator>
  <dc:description/>
  <dc:language>en-US</dc:language>
  <cp:lastModifiedBy>Мария Ступина</cp:lastModifiedBy>
  <dcterms:modified xsi:type="dcterms:W3CDTF">2016-10-05T08:57:52Z</dcterms:modified>
  <cp:revision>83</cp:revision>
  <dc:subject/>
  <dc:title>Презентация PowerPoint</dc:title>
</cp:coreProperties>
</file>